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FA4-0190-4E2D-8B1F-4669F2E9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5F7-19BC-4DE5-9C2E-B4104DFC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690-7C8F-4CCE-A6F6-CC50395F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2BF-309F-4B33-AEDA-A5A84550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9E0E-EA11-4623-B9AD-922665D5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5936-47F3-4641-B5B0-0D0C2D82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B329-FC03-4AEC-9C91-C974A50C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BC73-73DD-49EF-B0AD-8C193B8E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3E77-173A-433B-8F8A-35CE6A95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7543-D21B-469A-80FA-DC309B99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3779-DAD2-4075-AF9A-1786A207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C3E-4EEB-4026-92D7-BDD79E5E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C5B3-D7D4-4E9D-965C-2897E27D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C39E-748A-4353-B99A-7B2F573F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5077-C2D5-43A2-875D-BEC7D4F3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7EAF-B18B-4C36-BA49-7AA48A4D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096E-0045-4EDC-A88B-8EB0F4CB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D8C-6EB6-4D1F-8182-50018637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22E-26B7-4CDC-8B3E-094D42DE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E08-A908-4026-95C0-8AF99779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850-FF0C-4E83-AB30-EA54A16E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F85-2533-44B9-8091-75E327A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8B8-7D40-4519-97FB-BC795372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C8A-B27E-436E-A5E0-9FDE411E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6F50-258B-4F75-9F15-4C3072D515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DF14-9577-4ADF-864E-C50B5ABA4B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64640"/>
            <a:ext cx="7846920" cy="1584360"/>
          </a:xfrm>
          <a:prstGeom prst="rect">
            <a:avLst/>
          </a:prstGeom>
          <a:solidFill>
            <a:srgbClr val="9900ff">
              <a:alpha val="50000"/>
            </a:srgbClr>
          </a:solidFill>
          <a:ln w="76320">
            <a:solidFill>
              <a:srgbClr val="c58bf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Использование технологии развития критического мышления на уроках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0000" y="4723920"/>
            <a:ext cx="6400800" cy="1513080"/>
          </a:xfrm>
          <a:prstGeom prst="rect">
            <a:avLst/>
          </a:prstGeom>
          <a:solidFill>
            <a:srgbClr val="c36c03">
              <a:alpha val="50000"/>
            </a:srgbClr>
          </a:solidFill>
          <a:ln w="5724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ff"/>
                </a:solidFill>
                <a:latin typeface="Arial"/>
              </a:rPr>
              <a:t>Подготовила Гребёнкина Н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ff"/>
                </a:solidFill>
                <a:latin typeface="Arial"/>
              </a:rPr>
              <a:t>учитель истории и обществознания ГБОУ СОШ № 2 «ОЦ»  с. Бор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112760"/>
          </a:xfrm>
          <a:prstGeom prst="rect">
            <a:avLst/>
          </a:prstGeom>
          <a:solidFill>
            <a:srgbClr val="ccffcc"/>
          </a:solidFill>
          <a:ln w="57240">
            <a:solidFill>
              <a:srgbClr val="1b7f2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Приём «</a:t>
            </a: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Инсерт</a:t>
            </a: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» на уроке истории в 7 классе.</a:t>
            </a:r>
            <a:br>
              <a:rPr sz="1800"/>
            </a:b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Тема: </a:t>
            </a:r>
            <a:r>
              <a:rPr b="0" i="1" lang="ru-RU" sz="1800" spc="-1" strike="noStrike">
                <a:solidFill>
                  <a:srgbClr val="8c0039"/>
                </a:solidFill>
                <a:latin typeface="Arial"/>
              </a:rPr>
              <a:t>«Великие географические открытия и их последствия»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557360"/>
            <a:ext cx="6400800" cy="4680000"/>
          </a:xfrm>
          <a:prstGeom prst="rect">
            <a:avLst/>
          </a:prstGeom>
          <a:solidFill>
            <a:srgbClr val="ccffcc"/>
          </a:solidFill>
          <a:ln w="57240">
            <a:solidFill>
              <a:srgbClr val="1b7f27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Условные зна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лючевые выраж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Колумб открыл Америку, но он думал,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то открыл новый путь в Инд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киста – завое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ония – территория, потерявш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зависим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Считал, что Колумб открыл вс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ерику, а он доплыл только д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ровов Карибского мо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чему после Великих географ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тий  упали цены на золото и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росли на все товар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897120"/>
          </a:xfrm>
          <a:prstGeom prst="rect">
            <a:avLst/>
          </a:prstGeom>
          <a:solidFill>
            <a:srgbClr val="f2f490"/>
          </a:solidFill>
          <a:ln w="57240">
            <a:solidFill>
              <a:srgbClr val="99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Приём «Фишбоун» («Рыбная кость»)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400800" cy="4970160"/>
          </a:xfrm>
          <a:prstGeom prst="rect">
            <a:avLst/>
          </a:prstGeom>
          <a:solidFill>
            <a:srgbClr val="f2f490"/>
          </a:solidFill>
          <a:ln w="38160">
            <a:solidFill>
              <a:srgbClr val="99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3716280"/>
            <a:ext cx="4104000" cy="2174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3068640"/>
            <a:ext cx="93636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688000">
            <a:off x="2916000" y="3284280"/>
            <a:ext cx="1152360" cy="1152360"/>
          </a:xfrm>
          <a:prstGeom prst="rtTriangl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352760" y="3020040"/>
            <a:ext cx="954360" cy="69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57240" y="3038760"/>
            <a:ext cx="896400" cy="69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3933720"/>
            <a:ext cx="934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3933720"/>
            <a:ext cx="86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30400" y="3645000"/>
            <a:ext cx="4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 rot="17589600">
            <a:off x="2872080" y="3615120"/>
            <a:ext cx="728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 rot="20689200">
            <a:off x="4500720" y="2997000"/>
            <a:ext cx="57600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чина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 rot="21093600">
            <a:off x="5580000" y="2997000"/>
            <a:ext cx="50328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чина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 rot="3892800">
            <a:off x="4361040" y="4358520"/>
            <a:ext cx="43164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акты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 rot="3861600">
            <a:off x="5470920" y="4277520"/>
            <a:ext cx="43812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акты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 rot="17509200">
            <a:off x="7785000" y="3528360"/>
            <a:ext cx="639720" cy="4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676440"/>
          </a:xfrm>
          <a:prstGeom prst="rect">
            <a:avLst/>
          </a:prstGeom>
          <a:solidFill>
            <a:srgbClr val="f2f490"/>
          </a:solidFill>
          <a:ln w="57240">
            <a:solidFill>
              <a:srgbClr val="99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Приём «Фишбоун» на уроке истории в 6 классе.</a:t>
            </a:r>
            <a:br>
              <a:rPr sz="1600"/>
            </a:b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Тема: </a:t>
            </a:r>
            <a:r>
              <a:rPr b="0" i="1" lang="ru-RU" sz="1600" spc="-1" strike="noStrike">
                <a:solidFill>
                  <a:srgbClr val="8c0039"/>
                </a:solidFill>
                <a:latin typeface="Arial"/>
              </a:rPr>
              <a:t>«Начало раздробления Древнерусского государства»</a:t>
            </a: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400800" cy="4970160"/>
          </a:xfrm>
          <a:prstGeom prst="rect">
            <a:avLst/>
          </a:prstGeom>
          <a:solidFill>
            <a:srgbClr val="f2f490"/>
          </a:solidFill>
          <a:ln w="38160">
            <a:solidFill>
              <a:srgbClr val="99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3716280"/>
            <a:ext cx="4104000" cy="2174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2852640"/>
            <a:ext cx="1079280" cy="20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688000">
            <a:off x="2771640" y="3141360"/>
            <a:ext cx="1443240" cy="1396800"/>
          </a:xfrm>
          <a:prstGeom prst="rtTriangl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146480" y="2909520"/>
            <a:ext cx="846360" cy="82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3080" y="2909520"/>
            <a:ext cx="793080" cy="81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3933720"/>
            <a:ext cx="934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2720" y="3933720"/>
            <a:ext cx="86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327720" y="3039480"/>
            <a:ext cx="663840" cy="70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31320" y="3903480"/>
            <a:ext cx="799200" cy="7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 rot="5400000">
            <a:off x="2339280" y="3500280"/>
            <a:ext cx="144000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чины  распада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ей  Руси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 rot="5400000">
            <a:off x="7198920" y="3537000"/>
            <a:ext cx="1873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дробленность  на  Руси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ла  неизбежна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 rot="20357400">
            <a:off x="3850920" y="2133360"/>
            <a:ext cx="13032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ждуусобные  войны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 борьба  за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иевский  престол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19984200">
            <a:off x="5003640" y="2276280"/>
            <a:ext cx="15289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силение  экономической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щи  отдельных  земель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 rot="19631400">
            <a:off x="6012000" y="2249280"/>
            <a:ext cx="1646280" cy="75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сутствие  тесных  торговых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вязей  между  княжествами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 rot="3709200">
            <a:off x="3918960" y="4392360"/>
            <a:ext cx="1440000" cy="10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 был  определён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рядок  наследования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иевского  престола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 rot="3285600">
            <a:off x="5051160" y="4546440"/>
            <a:ext cx="1996920" cy="10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личие  территорий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  природным  и  хозяйственным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словиям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 rot="2846400">
            <a:off x="6340680" y="4752360"/>
            <a:ext cx="1494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туральное  хозяйство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solidFill>
            <a:srgbClr val="86fed0"/>
          </a:solidFill>
          <a:ln w="5724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Другие методы и приёмы технологии развития критического мышления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1268280"/>
            <a:ext cx="6400800" cy="511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1b7f2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инквейн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 ст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ма одним словом (обычн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ительно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 ст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писание темы (два прилагатель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 ст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исание действия в рамках этой 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ри глагола или деепричаст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 ст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шение к теме, чувства, эмо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за из четырёх с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5 ст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овторение сути темы одним сло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иноним тем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039680"/>
          </a:xfrm>
          <a:prstGeom prst="rect">
            <a:avLst/>
          </a:prstGeom>
          <a:solidFill>
            <a:srgbClr val="ccffcc"/>
          </a:solidFill>
          <a:ln w="38160">
            <a:solidFill>
              <a:srgbClr val="86fed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b7f27"/>
                </a:solidFill>
                <a:latin typeface="Arial"/>
              </a:rPr>
              <a:t>Синквейн на уроке истории в 9 классе.</a:t>
            </a:r>
            <a:br>
              <a:rPr sz="1800"/>
            </a:br>
            <a:r>
              <a:rPr b="0" lang="ru-RU" sz="1800" spc="-1" strike="noStrike">
                <a:solidFill>
                  <a:srgbClr val="1b7f27"/>
                </a:solidFill>
                <a:latin typeface="Arial"/>
              </a:rPr>
              <a:t> Тема: </a:t>
            </a:r>
            <a:r>
              <a:rPr b="0" i="1" lang="ru-RU" sz="1800" spc="-1" strike="noStrike">
                <a:solidFill>
                  <a:srgbClr val="1b7f27"/>
                </a:solidFill>
                <a:latin typeface="Arial"/>
              </a:rPr>
              <a:t>«Россия в 1900-1917 гг.»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8eeaf6"/>
          </a:solidFill>
          <a:ln w="5724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царская, самодерж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оюет, подавляет, сверг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эпоха мировой войны, революции, гражданской см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двиг в российском обществе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54800" cy="968400"/>
          </a:xfrm>
          <a:prstGeom prst="rect">
            <a:avLst/>
          </a:prstGeom>
          <a:solidFill>
            <a:srgbClr val="ccffcc"/>
          </a:solidFill>
          <a:ln w="38160">
            <a:solidFill>
              <a:srgbClr val="99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Метод Жигсо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205160"/>
          </a:xfrm>
          <a:prstGeom prst="rect">
            <a:avLst/>
          </a:prstGeom>
          <a:solidFill>
            <a:srgbClr val="c58bf9"/>
          </a:solidFill>
          <a:ln w="5724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тод Жигс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может использоваться сразу на дв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диях урока (осмыслении и рефлексии). В его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ит групповая работа. Формируется столько груп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опросов учитель планирует рассмотреть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м уроке, например, три или четыре. Группы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 по силам, либо спонтанно,  в зависим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подготовленности учащихся и степени сло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11280" y="188640"/>
            <a:ext cx="6400800" cy="936360"/>
          </a:xfrm>
          <a:prstGeom prst="rect">
            <a:avLst/>
          </a:prstGeom>
          <a:solidFill>
            <a:srgbClr val="c2f490"/>
          </a:solidFill>
          <a:ln w="38160">
            <a:solidFill>
              <a:srgbClr val="99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Метод Жигсо и приём «Кластер» на уроке истории в 5 классе</a:t>
            </a:r>
            <a:br>
              <a:rPr sz="1800"/>
            </a:b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Тема: </a:t>
            </a:r>
            <a:r>
              <a:rPr b="0" i="1" lang="ru-RU" sz="1800" spc="-1" strike="noStrike">
                <a:solidFill>
                  <a:srgbClr val="8c0039"/>
                </a:solidFill>
                <a:latin typeface="Arial"/>
              </a:rPr>
              <a:t>«Военные походы фараонов»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11280" y="1413000"/>
            <a:ext cx="6400800" cy="514008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бота с иллюстрациями из соответствующего параграфа учебника.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смотрите иллюстрации и составьте кластер, выделя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 групп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став войска (пехота, лучники, копейщики, боевые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олесницы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виды оружия (лук и стрелы, копья, дротики, бое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опорики, щиты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лас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4076640"/>
            <a:ext cx="1152360" cy="43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148360" y="4149720"/>
            <a:ext cx="79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йско</a:t>
            </a:r>
            <a:endParaRPr b="0" lang="en-US" sz="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4581360"/>
            <a:ext cx="1297080" cy="43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03640" y="4653000"/>
            <a:ext cx="1081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ужие</a:t>
            </a:r>
            <a:endParaRPr b="0" lang="en-US" sz="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 rot="559800">
            <a:off x="6732720" y="4076280"/>
            <a:ext cx="1369800" cy="4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оевые  колесницы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1469400">
            <a:off x="3634920" y="4076280"/>
            <a:ext cx="48096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хота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712800">
            <a:off x="4427640" y="5300280"/>
            <a:ext cx="238284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ук и стрелы. Копья. Дротики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оевые топорики. Щиты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083640" y="4268160"/>
            <a:ext cx="589680" cy="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64480" y="4270320"/>
            <a:ext cx="72684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467320" y="5010480"/>
            <a:ext cx="9360" cy="50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-5702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11280" y="549360"/>
            <a:ext cx="6400800" cy="590400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группа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бота с картой учеб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смотрите карту и определи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направления военных пох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какие страны и территории были завоёваны египетскими фараон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на какие части света раскинулись египетские владения при фараоне Тутмосе?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лас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3284640"/>
            <a:ext cx="1562400" cy="4334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716360" y="335772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ипет</a:t>
            </a:r>
            <a:endParaRPr b="0" lang="en-US" sz="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 rot="790800">
            <a:off x="6587640" y="371592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веро - восток. Синайский п-ов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алестина. Финикия. Сирия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 rot="414000">
            <a:off x="3130560" y="3932280"/>
            <a:ext cx="1366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пад Африки. Ливия.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 rot="1500000">
            <a:off x="5076360" y="4868640"/>
            <a:ext cx="7970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Юг Африки.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убия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630600" y="3410280"/>
            <a:ext cx="999720" cy="49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4960" y="3423600"/>
            <a:ext cx="1330200" cy="42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3716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4360" y="-1395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1280" y="333360"/>
            <a:ext cx="6400800" cy="612288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групп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Работа с историческим источник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чтите текст и определи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С какой целью фараоны совершали свои военные походы в другие стран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Что захватывали в качестве добыч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Кому воздавали хвалу воины Егип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Кому приносили награбленно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лас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3068640"/>
            <a:ext cx="1224000" cy="2890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3640" y="3141720"/>
            <a:ext cx="1081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араон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43280" y="314172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и походов:</a:t>
            </a:r>
            <a:endParaRPr b="0" lang="en-US" sz="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грабительские;</a:t>
            </a:r>
            <a:endParaRPr b="0" lang="en-US" sz="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захватнические</a:t>
            </a:r>
            <a:endParaRPr b="0" lang="en-US" sz="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04000" y="314172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ультаты походов:</a:t>
            </a:r>
            <a:endParaRPr b="0" lang="en-US" sz="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захват новых</a:t>
            </a:r>
            <a:endParaRPr b="0" lang="en-US" sz="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риторий;</a:t>
            </a:r>
            <a:endParaRPr b="0" lang="en-US" sz="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64360" y="4724280"/>
            <a:ext cx="79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добыча</a:t>
            </a:r>
            <a:endParaRPr b="0" lang="en-US" sz="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4437000"/>
            <a:ext cx="1511640" cy="1443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96000" y="4437000"/>
            <a:ext cx="136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ределение</a:t>
            </a:r>
            <a:endParaRPr b="0" lang="en-US" sz="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771640" y="5877000"/>
            <a:ext cx="57610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ий скот   рабы   материальные ценности   полезные ископаемые</a:t>
            </a:r>
            <a:endParaRPr b="0" lang="en-US" sz="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187160" y="3193560"/>
            <a:ext cx="676080" cy="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2764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3284640"/>
            <a:ext cx="1297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563640" y="5013360"/>
            <a:ext cx="388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427640" y="5013360"/>
            <a:ext cx="30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472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651640" y="5013360"/>
            <a:ext cx="1800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50920" y="5013360"/>
            <a:ext cx="289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752400"/>
          </a:xfrm>
          <a:prstGeom prst="rect">
            <a:avLst/>
          </a:prstGeom>
          <a:solidFill>
            <a:srgbClr val="e6f88c"/>
          </a:solidFill>
          <a:ln w="57240">
            <a:solidFill>
              <a:srgbClr val="ff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Метод «Ромашка вопросов» («Ромашка Блума»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8280" y="1484280"/>
            <a:ext cx="6400800" cy="4897440"/>
          </a:xfrm>
          <a:prstGeom prst="rect">
            <a:avLst/>
          </a:prstGeom>
          <a:solidFill>
            <a:srgbClr val="e6f88c"/>
          </a:solidFill>
          <a:ln w="38160">
            <a:solidFill>
              <a:srgbClr val="ff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Ромашка вопросов» («Ромашка Блума»)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это система вопросов,  предложена известным американским психологом и педагогом Бенджамином Блумом. Вопросы составляются по разным уровням познавательной деятельности (знание, понимание, применение, анализ, синтез и оценка). Шесть лепестков – шесть типов вопросов: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) Простые (назвать факты, вспомнить и воспроизвести   определённую информацию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 Уточняющие (целью этих вопросов является предоставление человеку возможностей для обратной связи относительно того, что он только что сказал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) Интерпретационные или объясняющие (обычно начинаются со слов «Почему?»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) Творческие (если в вопросе есть частица «бы», элементы условности, предположения, прогноза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) Оценочные (направлены на выяснение критериев оценки тех или иных событий, явлений, фак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) Практические (эти вопросы направлены на установление взаимосвязи между теорией и практикой)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333000"/>
            <a:ext cx="6400800" cy="863640"/>
          </a:xfrm>
          <a:prstGeom prst="rect">
            <a:avLst/>
          </a:prstGeom>
          <a:solidFill>
            <a:srgbClr val="dbd4a9"/>
          </a:solidFill>
          <a:ln w="5724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Технология развития критического мышления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solidFill>
            <a:srgbClr val="ff9933"/>
          </a:solidFill>
          <a:ln w="57240">
            <a:solidFill>
              <a:srgbClr val="8c003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тод «Ромашка вопросов» на уроке истории в 9 классе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ма: «Экономические реформы»</a:t>
            </a: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11280" y="1268280"/>
            <a:ext cx="6400800" cy="5113440"/>
          </a:xfrm>
          <a:prstGeom prst="rect">
            <a:avLst/>
          </a:prstGeom>
          <a:solidFill>
            <a:srgbClr val="e6f88c"/>
          </a:solidFill>
          <a:ln w="38160">
            <a:solidFill>
              <a:srgbClr val="c36c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 Когда и какие государственные должности занимал П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толыпин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 Объясните его слова: «Дайте государству двадцать л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окоя внутреннего и внешнего, и вы не узнаете нынеш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Росс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 Почему Столыпина назвали достойным преемником С.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ит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. Какие бы  результаты дали  реформы Столыпина, если 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 него не совершили  покушени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5. «Герой» или «злодей» - дайте оценочное суждение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.А. Столып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. Какие факты можете привести в пользу той или иной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ценки Столыпина как личности и как реформатор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463680"/>
          </a:xfrm>
          <a:prstGeom prst="rect">
            <a:avLst/>
          </a:prstGeom>
          <a:solidFill>
            <a:srgbClr val="f2f490"/>
          </a:solidFill>
          <a:ln w="57240">
            <a:solidFill>
              <a:srgbClr val="99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c0039"/>
                </a:solidFill>
                <a:uFillTx/>
                <a:latin typeface="Arial"/>
              </a:rPr>
              <a:t>Вывод:</a:t>
            </a: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125360"/>
            <a:ext cx="6400800" cy="489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 Практическое использование технологии РКМЧП позволяет нам наблюдать, как при помощи одних и тех же приёмов решаются задачи различного уровня сложности. Так, если в 5 кл. ученики учатся выделять нужную информацию в тексте, то в 6 кл. тот же приём позволяет решать более сложные задачи. В 6 кл. учащиеся анализируют, соответствует ли информация задаче, появляется оценивание событий, оказавших влияние на историю Руси. Таким образом, начав с простых приёмов в 5 кл., с простого выявления информации из текста, можно постепенно выйти к серьёзному анализу текста. Другими словами, можно сказать, что с усложнением учебной задачи расширяются учебные возможности и обучающие ресурсы приёмов и технологических стратегий. Они как бы  «растут» с образовательным ростом учеников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7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84360" y="1483920"/>
            <a:ext cx="6400800" cy="3963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.В. Богатенкова «Технология развития критического мышления на уроках истории и краеведения Н.В.Богатенкова // Пособие для учителей – СПб.: СПбГУПМ, 2001; « 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О. Загашев, С.И. Заир – Бек, И.В. Муштавинская, «Учим детей мыслить критически», СПб, 2003г., с.1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Технология развития критического мышления на уроке истории http://history-helpmy.blogspot.com/2010/04/blog-post_5385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6264360" cy="863640"/>
          </a:xfrm>
          <a:prstGeom prst="rect">
            <a:avLst/>
          </a:prstGeom>
          <a:solidFill>
            <a:srgbClr val="9aeaa4"/>
          </a:solidFill>
          <a:ln w="57240">
            <a:solidFill>
              <a:srgbClr val="1b7f2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Технология РКМЧП позволяет решать задачи: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84360" y="1483920"/>
            <a:ext cx="6354720" cy="48243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бразовательной мотивации: повышения инте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процессу обучения и актив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б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ультуры письма: формирования навыков напис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кстов различных жан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нформационной грамотности: развития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самостоятельной аналитической и оцено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е с информацией любой сло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циальной компетентности: 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муникативных навыков и ответственности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112760"/>
          </a:xfrm>
          <a:prstGeom prst="rect">
            <a:avLst/>
          </a:prstGeom>
          <a:solidFill>
            <a:srgbClr val="dbd4a9"/>
          </a:solidFill>
          <a:ln w="5724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Развитие критического мышления приводит к следующим результатам:</a:t>
            </a: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) Высокая мотивация учащихся к образовательному процес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) Возрастание мыслительных возможностей учащихся, гибкости мышления, его переключения с одного типа на друг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) Развитие способности самостоятельно конструировать, строить понятия и оперировать 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) Развитие способности передавать другим авторскую информацию, подвергать ее коррекции, понимать и принимать точку зрения другого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5) Развитие умения анализировать полученную информац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112760"/>
          </a:xfrm>
          <a:prstGeom prst="rect">
            <a:avLst/>
          </a:prstGeom>
          <a:solidFill>
            <a:srgbClr val="f2f49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Основа технологии – трехфазовая структура урока: «вызов», «осмысление», «рефлексия»: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773000"/>
            <a:ext cx="6454800" cy="4319640"/>
          </a:xfrm>
          <a:prstGeom prst="rect">
            <a:avLst/>
          </a:prstGeom>
          <a:solidFill>
            <a:srgbClr val="f2f49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1-я стадия                                 2-я стадия                                  3-я стад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ff0066"/>
                </a:solidFill>
                <a:uFillTx/>
                <a:latin typeface="Arial"/>
              </a:rPr>
              <a:t>Вызов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:                                  </a:t>
            </a:r>
            <a:r>
              <a:rPr b="0" lang="en-US" sz="1400" spc="-1" strike="noStrike" u="sng">
                <a:solidFill>
                  <a:srgbClr val="ff0066"/>
                </a:solidFill>
                <a:uFillTx/>
                <a:latin typeface="Arial"/>
              </a:rPr>
              <a:t>Осмысление: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                           </a:t>
            </a:r>
            <a:r>
              <a:rPr b="0" lang="en-US" sz="1400" spc="-1" strike="noStrike" u="sng">
                <a:solidFill>
                  <a:srgbClr val="ff0066"/>
                </a:solidFill>
                <a:uFillTx/>
                <a:latin typeface="Arial"/>
              </a:rPr>
              <a:t>Рефлексия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актуализация                             - получение новой                              - размышл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еющихся знаний;                     информации;                                     появление нов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пробуждение                              - учащиеся соотносят                        - постан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тереса к получению                 старые знания с                                 учеником но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ой информации;                     новыми.                                              целей обу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постановка учени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бственных  ц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-6058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47640" y="836280"/>
            <a:ext cx="5327640" cy="3816360"/>
          </a:xfrm>
          <a:prstGeom prst="rect">
            <a:avLst/>
          </a:prstGeom>
          <a:solidFill>
            <a:srgbClr val="f2f490"/>
          </a:solidFill>
          <a:ln w="57240">
            <a:solidFill>
              <a:srgbClr val="dbd4a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Некоторые методы и приё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технологии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18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e4005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Стадия «Вызов» - Приём «Понятийное колесо» на уроке обществознания в 8 классе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Тема: </a:t>
            </a:r>
            <a:r>
              <a:rPr b="0" i="1" lang="en-US" sz="1800" spc="-1" strike="noStrike">
                <a:solidFill>
                  <a:srgbClr val="8c0039"/>
                </a:solidFill>
                <a:latin typeface="Arial"/>
              </a:rPr>
              <a:t>«Человек и общество» (</a:t>
            </a:r>
            <a:r>
              <a:rPr b="0" i="1" lang="en-US" sz="1600" spc="-1" strike="noStrike">
                <a:solidFill>
                  <a:srgbClr val="8c0039"/>
                </a:solidFill>
                <a:latin typeface="Arial"/>
              </a:rPr>
              <a:t>«Что такое общество?»)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565440" y="1816560"/>
            <a:ext cx="4076640" cy="4446720"/>
            <a:chOff x="3565440" y="1816560"/>
            <a:chExt cx="4076640" cy="4446720"/>
          </a:xfrm>
        </p:grpSpPr>
        <p:sp>
          <p:nvSpPr>
            <p:cNvPr id="100" name="_s114725"/>
            <p:cNvSpPr/>
            <p:nvPr/>
          </p:nvSpPr>
          <p:spPr>
            <a:xfrm flipH="1" flipV="1">
              <a:off x="4857840" y="2961360"/>
              <a:ext cx="49680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14724"/>
            <p:cNvSpPr/>
            <p:nvPr/>
          </p:nvSpPr>
          <p:spPr>
            <a:xfrm>
              <a:off x="4179960" y="2156040"/>
              <a:ext cx="850680" cy="892440"/>
            </a:xfrm>
            <a:prstGeom prst="ellipse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люд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14723"/>
            <p:cNvSpPr/>
            <p:nvPr/>
          </p:nvSpPr>
          <p:spPr>
            <a:xfrm flipH="1" flipV="1">
              <a:off x="4397400" y="3627360"/>
              <a:ext cx="80496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14722"/>
            <p:cNvSpPr/>
            <p:nvPr/>
          </p:nvSpPr>
          <p:spPr>
            <a:xfrm>
              <a:off x="3565440" y="3046680"/>
              <a:ext cx="851040" cy="892440"/>
            </a:xfrm>
            <a:prstGeom prst="ellipse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ел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14721"/>
            <p:cNvSpPr/>
            <p:nvPr/>
          </p:nvSpPr>
          <p:spPr>
            <a:xfrm flipH="1">
              <a:off x="4397400" y="4177080"/>
              <a:ext cx="80640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14720"/>
            <p:cNvSpPr/>
            <p:nvPr/>
          </p:nvSpPr>
          <p:spPr>
            <a:xfrm>
              <a:off x="3567240" y="4145760"/>
              <a:ext cx="850680" cy="892080"/>
            </a:xfrm>
            <a:prstGeom prst="ellipse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лас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14719"/>
            <p:cNvSpPr/>
            <p:nvPr/>
          </p:nvSpPr>
          <p:spPr>
            <a:xfrm flipH="1">
              <a:off x="4858920" y="4396680"/>
              <a:ext cx="49860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14718"/>
            <p:cNvSpPr/>
            <p:nvPr/>
          </p:nvSpPr>
          <p:spPr>
            <a:xfrm>
              <a:off x="4184640" y="5032800"/>
              <a:ext cx="851040" cy="892440"/>
            </a:xfrm>
            <a:prstGeom prst="ellipse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слов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14717"/>
            <p:cNvSpPr/>
            <p:nvPr/>
          </p:nvSpPr>
          <p:spPr>
            <a:xfrm>
              <a:off x="5605560" y="4481640"/>
              <a:ext cx="0" cy="88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14716"/>
            <p:cNvSpPr/>
            <p:nvPr/>
          </p:nvSpPr>
          <p:spPr>
            <a:xfrm>
              <a:off x="5181480" y="5370840"/>
              <a:ext cx="851040" cy="892440"/>
            </a:xfrm>
            <a:prstGeom prst="ellipse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р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14715"/>
            <p:cNvSpPr/>
            <p:nvPr/>
          </p:nvSpPr>
          <p:spPr>
            <a:xfrm>
              <a:off x="5853240" y="4396680"/>
              <a:ext cx="49824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14714"/>
            <p:cNvSpPr/>
            <p:nvPr/>
          </p:nvSpPr>
          <p:spPr>
            <a:xfrm>
              <a:off x="6176880" y="5029560"/>
              <a:ext cx="851040" cy="892440"/>
            </a:xfrm>
            <a:prstGeom prst="ellipse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боч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14713"/>
            <p:cNvSpPr/>
            <p:nvPr/>
          </p:nvSpPr>
          <p:spPr>
            <a:xfrm>
              <a:off x="6006960" y="4175640"/>
              <a:ext cx="804960" cy="27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14712"/>
            <p:cNvSpPr/>
            <p:nvPr/>
          </p:nvSpPr>
          <p:spPr>
            <a:xfrm>
              <a:off x="6791400" y="4140360"/>
              <a:ext cx="850680" cy="892440"/>
            </a:xfrm>
            <a:prstGeom prst="ellipse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еррито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14711"/>
            <p:cNvSpPr/>
            <p:nvPr/>
          </p:nvSpPr>
          <p:spPr>
            <a:xfrm flipV="1">
              <a:off x="6006960" y="3627720"/>
              <a:ext cx="80496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14710"/>
            <p:cNvSpPr/>
            <p:nvPr/>
          </p:nvSpPr>
          <p:spPr>
            <a:xfrm>
              <a:off x="6789600" y="3042000"/>
              <a:ext cx="851040" cy="892080"/>
            </a:xfrm>
            <a:prstGeom prst="ellipse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14709"/>
            <p:cNvSpPr/>
            <p:nvPr/>
          </p:nvSpPr>
          <p:spPr>
            <a:xfrm flipV="1">
              <a:off x="5853240" y="2961360"/>
              <a:ext cx="496800" cy="71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14708"/>
            <p:cNvSpPr/>
            <p:nvPr/>
          </p:nvSpPr>
          <p:spPr>
            <a:xfrm>
              <a:off x="6173640" y="2154240"/>
              <a:ext cx="851040" cy="892440"/>
            </a:xfrm>
            <a:prstGeom prst="ellipse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тра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14707"/>
            <p:cNvSpPr/>
            <p:nvPr/>
          </p:nvSpPr>
          <p:spPr>
            <a:xfrm flipV="1">
              <a:off x="5603760" y="2709000"/>
              <a:ext cx="0" cy="88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14706"/>
            <p:cNvSpPr/>
            <p:nvPr/>
          </p:nvSpPr>
          <p:spPr>
            <a:xfrm>
              <a:off x="5178600" y="1816560"/>
              <a:ext cx="850680" cy="892440"/>
            </a:xfrm>
            <a:prstGeom prst="ellipse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чащие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14705"/>
            <p:cNvSpPr/>
            <p:nvPr/>
          </p:nvSpPr>
          <p:spPr>
            <a:xfrm>
              <a:off x="5178600" y="3594600"/>
              <a:ext cx="850680" cy="892440"/>
            </a:xfrm>
            <a:prstGeom prst="ellipse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228240"/>
            <a:ext cx="6427800" cy="1112760"/>
          </a:xfrm>
          <a:prstGeom prst="rect">
            <a:avLst/>
          </a:prstGeom>
          <a:solidFill>
            <a:srgbClr val="dbd4a9"/>
          </a:solidFill>
          <a:ln w="57240">
            <a:solidFill>
              <a:srgbClr val="f2f4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Стадия «Вызов» - Приём ЗХУ на уроке истории в 5 классе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Тема: </a:t>
            </a:r>
            <a:r>
              <a:rPr b="0" i="1" lang="en-US" sz="1800" spc="-1" strike="noStrike">
                <a:solidFill>
                  <a:srgbClr val="8c0039"/>
                </a:solidFill>
                <a:latin typeface="Arial"/>
              </a:rPr>
              <a:t>«Откуда мы знаем историю"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844640"/>
            <a:ext cx="6400800" cy="4392720"/>
          </a:xfrm>
          <a:prstGeom prst="rect">
            <a:avLst/>
          </a:prstGeom>
          <a:solidFill>
            <a:srgbClr val="f2f490"/>
          </a:solidFill>
          <a:ln w="381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ff"/>
                </a:solidFill>
                <a:uFillTx/>
                <a:latin typeface="Arial"/>
              </a:rPr>
              <a:t>    </a:t>
            </a:r>
            <a:r>
              <a:rPr b="1" lang="ru-RU" sz="1600" spc="-1" strike="noStrike" u="sng">
                <a:solidFill>
                  <a:srgbClr val="9900ff"/>
                </a:solidFill>
                <a:uFillTx/>
                <a:latin typeface="Arial"/>
              </a:rPr>
              <a:t>«З»- знаю</a:t>
            </a: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                    </a:t>
            </a:r>
            <a:r>
              <a:rPr b="1" lang="ru-RU" sz="1600" spc="-1" strike="noStrike" u="sng">
                <a:solidFill>
                  <a:srgbClr val="9900ff"/>
                </a:solidFill>
                <a:uFillTx/>
                <a:latin typeface="Arial"/>
              </a:rPr>
              <a:t>«Х»- хочу узнать</a:t>
            </a: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               </a:t>
            </a:r>
            <a:r>
              <a:rPr b="1" lang="ru-RU" sz="1600" spc="-1" strike="noStrike" u="sng">
                <a:solidFill>
                  <a:srgbClr val="9900ff"/>
                </a:solidFill>
                <a:uFillTx/>
                <a:latin typeface="Arial"/>
              </a:rPr>
              <a:t>«У»- узн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 Кто такие                  - Как работают археоло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рхеологи.                    Как находят археолог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ческие памят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 Что такое                   - Какие ви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сторические               исторических источ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амятники.                   существу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039680"/>
          </a:xfrm>
          <a:prstGeom prst="rect">
            <a:avLst/>
          </a:prstGeom>
          <a:solidFill>
            <a:srgbClr val="ccffcc"/>
          </a:solidFill>
          <a:ln w="57240">
            <a:solidFill>
              <a:srgbClr val="1b7f2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Стадия «Осмысление»</a:t>
            </a:r>
            <a:br>
              <a:rPr sz="1800"/>
            </a:b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Приём «Инсерт» («Условные знаки»)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87640" y="1916280"/>
            <a:ext cx="5616720" cy="4176720"/>
          </a:xfrm>
          <a:prstGeom prst="rect">
            <a:avLst/>
          </a:prstGeom>
          <a:solidFill>
            <a:srgbClr val="ccffcc"/>
          </a:solidFill>
          <a:ln w="57240">
            <a:solidFill>
              <a:srgbClr val="1b7f2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!» - уже з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+» - н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-» - думал ина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?» - есть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06:02:45Z</dcterms:created>
  <dc:creator>Admin</dc:creator>
  <dc:description/>
  <dc:language>en-US</dc:language>
  <cp:lastModifiedBy>Admin</cp:lastModifiedBy>
  <dcterms:modified xsi:type="dcterms:W3CDTF">2013-08-20T14:01:27Z</dcterms:modified>
  <cp:revision>15</cp:revision>
  <dc:subject/>
  <dc:title>Использование технологий критического мышления на уроках истории и обществознания</dc:title>
</cp:coreProperties>
</file>