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89B4-611E-4DA0-99A9-11787940A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B693-AE75-47A5-BFF2-D1D2E4AB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DEC8-3CBF-42F3-A744-D28CFB03F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6477-82C1-473F-8031-3CCFE601F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0E0D-D091-4A19-9547-5FA3B1E8E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C262-E358-4A92-AC62-2DF96695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34DA-CC90-40B1-B2DF-39429DE0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8968-CD97-40F3-ABC0-CD4B8634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A146-52C8-483C-A419-27A5DF25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5DE2-2AB7-41DB-82F3-2CD49F65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9B7F-6EE1-49BE-A05B-1D050390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D994-B906-4D60-9132-5333D9D3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0086-5A9E-4850-9484-4F36E561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4318-A541-4B3F-872C-C8431F52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E69B-FE9B-44EC-880E-09BAA568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C9E8-C3A2-48AC-93EA-A616E4F51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2D76-2F16-401C-94D9-2A6215D86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E3F6-588F-49D5-9F75-DEAAA158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F11B-6691-4AF0-B545-B09751E6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0164-B2A3-438F-9460-AC1E8C6B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0C41-B879-4B58-AB35-C3AF41BB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DE01-3846-4233-8E2B-B2F09F9A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3CAB-D8CE-4A05-A058-6E829A75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2077-FFB5-4F6A-B972-364EC9D3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FF66-2DB4-4B43-A49F-1EDDF19EE45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74C1-8810-4F10-B108-21ADEBDB8EA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75800" y="1431720"/>
            <a:ext cx="8148600" cy="19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Использование технологии критического мышления на уроках истории и обществознания</a:t>
            </a:r>
            <a:br>
              <a:rPr sz="3200"/>
            </a:b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865680" y="3975120"/>
            <a:ext cx="527832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БОУ  СОШ  с. Алексее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лакова И.А. – учитель истории и общество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ём З-Х-У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(стадия «вызов»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020240"/>
            <a:ext cx="8229600" cy="50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а «Отечественная война 1812г.»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600200"/>
          <a:ext cx="8229600" cy="45115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мы зна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хотим узн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узнали, и осталось узн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льзитский м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бострение отношений     России и Франции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Отечественная война 1812 года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Бородинское сра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утуз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ожар в Моск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полеон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ему началась войн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то же выигр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родин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ажение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очему Кутузов оставил  Москву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то такие партиза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Чем закончилась войн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 получает задание дл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ы в группах.   Необходимо, используя свой отрывок текста учебника или документа, найти ответ на вопрос и заполнить колонк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Приём КЛАСТЕР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42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(стадии «осмысление», «рефлексия»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55840"/>
            <a:ext cx="822960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Это способ графической организации материала, позволяет сделать наглядными те мыслительные процессы, которые происходят при погружении в ту или иную тему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Кластер является отражением нелинейной формы мышления. Последовательность действий проста и логична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. Посередине чистого листа (классной доски) написать ключевое слово или предложение, которое является «сердцем» идеи, темы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. Вокруг «накидать» слова или предложения, выражающие идеи, факты, образы, подходящие для данной темы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3. По мере записи, появившиеся слова соединяются прямыми линиями с ключевым понятием. У каждой из «веточек» в свою очередь тоже появляются «веточки», устанавливаются новые логические связи. В итоге получается структура, которая графически отображает наши размышления, определяет информационное поле данной темы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Приём КЛАСТЕР </a:t>
            </a: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(тема «Государство», 11 класс)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57200" y="1222200"/>
            <a:ext cx="8229240" cy="4908240"/>
            <a:chOff x="457200" y="1222200"/>
            <a:chExt cx="8229240" cy="4908240"/>
          </a:xfrm>
        </p:grpSpPr>
        <p:cxnSp>
          <p:nvCxnSpPr>
            <p:cNvPr id="134" name="_s70699"/>
            <p:cNvCxnSpPr>
              <a:stCxn id="135" idx="1"/>
              <a:endCxn id="136" idx="2"/>
            </p:cNvCxnSpPr>
            <p:nvPr/>
          </p:nvCxnSpPr>
          <p:spPr>
            <a:xfrm rot="10800000">
              <a:off x="3938040" y="3184560"/>
              <a:ext cx="317160" cy="2700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70695"/>
            <p:cNvCxnSpPr>
              <a:stCxn id="138" idx="1"/>
              <a:endCxn id="139" idx="2"/>
            </p:cNvCxnSpPr>
            <p:nvPr/>
          </p:nvCxnSpPr>
          <p:spPr>
            <a:xfrm rot="10800000">
              <a:off x="6470280" y="3184560"/>
              <a:ext cx="317160" cy="2700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70693"/>
            <p:cNvCxnSpPr>
              <a:stCxn id="141" idx="1"/>
              <a:endCxn id="139" idx="2"/>
            </p:cNvCxnSpPr>
            <p:nvPr/>
          </p:nvCxnSpPr>
          <p:spPr>
            <a:xfrm rot="10800000">
              <a:off x="6470280" y="3184560"/>
              <a:ext cx="317160" cy="196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2" name="_s70691"/>
            <p:cNvCxnSpPr>
              <a:stCxn id="143" idx="1"/>
              <a:endCxn id="139" idx="2"/>
            </p:cNvCxnSpPr>
            <p:nvPr/>
          </p:nvCxnSpPr>
          <p:spPr>
            <a:xfrm rot="10800000">
              <a:off x="6470280" y="3184560"/>
              <a:ext cx="317160" cy="1226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70689"/>
            <p:cNvCxnSpPr>
              <a:stCxn id="145" idx="1"/>
              <a:endCxn id="139" idx="2"/>
            </p:cNvCxnSpPr>
            <p:nvPr/>
          </p:nvCxnSpPr>
          <p:spPr>
            <a:xfrm rot="10800000">
              <a:off x="6470280" y="3184560"/>
              <a:ext cx="317160" cy="491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6" name="_s70687"/>
            <p:cNvCxnSpPr>
              <a:stCxn id="147" idx="1"/>
              <a:endCxn id="136" idx="2"/>
            </p:cNvCxnSpPr>
            <p:nvPr/>
          </p:nvCxnSpPr>
          <p:spPr>
            <a:xfrm rot="10800000">
              <a:off x="3938040" y="3184560"/>
              <a:ext cx="317160" cy="1963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8" name="_s70685"/>
            <p:cNvCxnSpPr>
              <a:stCxn id="149" idx="1"/>
              <a:endCxn id="136" idx="2"/>
            </p:cNvCxnSpPr>
            <p:nvPr/>
          </p:nvCxnSpPr>
          <p:spPr>
            <a:xfrm rot="10800000">
              <a:off x="3938040" y="3185280"/>
              <a:ext cx="317160" cy="1227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" name="_s70683"/>
            <p:cNvCxnSpPr>
              <a:stCxn id="151" idx="1"/>
              <a:endCxn id="136" idx="2"/>
            </p:cNvCxnSpPr>
            <p:nvPr/>
          </p:nvCxnSpPr>
          <p:spPr>
            <a:xfrm rot="10800000">
              <a:off x="3938040" y="3184560"/>
              <a:ext cx="317160" cy="491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2" name="_s70681"/>
            <p:cNvCxnSpPr>
              <a:stCxn id="153" idx="3"/>
              <a:endCxn id="154" idx="2"/>
            </p:cNvCxnSpPr>
            <p:nvPr/>
          </p:nvCxnSpPr>
          <p:spPr>
            <a:xfrm flipV="1">
              <a:off x="2355840" y="2448360"/>
              <a:ext cx="317160" cy="343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_s70679"/>
            <p:cNvCxnSpPr>
              <a:stCxn id="156" idx="3"/>
              <a:endCxn id="154" idx="2"/>
            </p:cNvCxnSpPr>
            <p:nvPr/>
          </p:nvCxnSpPr>
          <p:spPr>
            <a:xfrm flipV="1">
              <a:off x="2355840" y="2448360"/>
              <a:ext cx="317160" cy="2700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7" name="_s70677"/>
            <p:cNvCxnSpPr>
              <a:stCxn id="158" idx="3"/>
              <a:endCxn id="154" idx="2"/>
            </p:cNvCxnSpPr>
            <p:nvPr/>
          </p:nvCxnSpPr>
          <p:spPr>
            <a:xfrm flipV="1">
              <a:off x="2355840" y="2448360"/>
              <a:ext cx="317160" cy="1963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9" name="_s70675"/>
            <p:cNvCxnSpPr>
              <a:stCxn id="139" idx="0"/>
              <a:endCxn id="160" idx="2"/>
            </p:cNvCxnSpPr>
            <p:nvPr/>
          </p:nvCxnSpPr>
          <p:spPr>
            <a:xfrm flipV="1" rot="16200000">
              <a:off x="5714640" y="1937880"/>
              <a:ext cx="245880" cy="1266480"/>
            </a:xfrm>
            <a:prstGeom prst="bentConnector3">
              <a:avLst>
                <a:gd name="adj1" fmla="val 463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" name="_s70673"/>
            <p:cNvCxnSpPr>
              <a:stCxn id="136" idx="0"/>
              <a:endCxn id="160" idx="2"/>
            </p:cNvCxnSpPr>
            <p:nvPr/>
          </p:nvCxnSpPr>
          <p:spPr>
            <a:xfrm flipH="1" flipV="1" rot="5400000">
              <a:off x="4448880" y="1938240"/>
              <a:ext cx="245880" cy="1266480"/>
            </a:xfrm>
            <a:prstGeom prst="bentConnector3">
              <a:avLst>
                <a:gd name="adj1" fmla="val 463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2" name="_s70662"/>
            <p:cNvCxnSpPr>
              <a:stCxn id="163" idx="3"/>
              <a:endCxn id="154" idx="2"/>
            </p:cNvCxnSpPr>
            <p:nvPr/>
          </p:nvCxnSpPr>
          <p:spPr>
            <a:xfrm flipV="1">
              <a:off x="2355840" y="2449080"/>
              <a:ext cx="317160" cy="1227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70663"/>
            <p:cNvCxnSpPr>
              <a:stCxn id="165" idx="3"/>
              <a:endCxn id="154" idx="2"/>
            </p:cNvCxnSpPr>
            <p:nvPr/>
          </p:nvCxnSpPr>
          <p:spPr>
            <a:xfrm flipV="1">
              <a:off x="2355840" y="2448720"/>
              <a:ext cx="317160" cy="493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6" name="_s70664"/>
            <p:cNvCxnSpPr>
              <a:stCxn id="160" idx="0"/>
              <a:endCxn id="167" idx="2"/>
            </p:cNvCxnSpPr>
            <p:nvPr/>
          </p:nvCxnSpPr>
          <p:spPr>
            <a:xfrm flipV="1" rot="16200000">
              <a:off x="4448520" y="1201680"/>
              <a:ext cx="245880" cy="1266480"/>
            </a:xfrm>
            <a:prstGeom prst="bentConnector3">
              <a:avLst>
                <a:gd name="adj1" fmla="val 463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8" name="_s70665"/>
            <p:cNvCxnSpPr>
              <a:stCxn id="154" idx="0"/>
              <a:endCxn id="167" idx="2"/>
            </p:cNvCxnSpPr>
            <p:nvPr/>
          </p:nvCxnSpPr>
          <p:spPr>
            <a:xfrm flipH="1" flipV="1" rot="5400000">
              <a:off x="3182760" y="1202040"/>
              <a:ext cx="245880" cy="1266480"/>
            </a:xfrm>
            <a:prstGeom prst="bentConnector3">
              <a:avLst>
                <a:gd name="adj1" fmla="val 463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7" name="_s70666"/>
            <p:cNvSpPr/>
            <p:nvPr/>
          </p:nvSpPr>
          <p:spPr>
            <a:xfrm>
              <a:off x="2989080" y="1222200"/>
              <a:ext cx="1899000" cy="49068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300"/>
                </a:spcBef>
                <a:buClr>
                  <a:srgbClr val="cc9900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Государст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70667"/>
            <p:cNvSpPr/>
            <p:nvPr/>
          </p:nvSpPr>
          <p:spPr>
            <a:xfrm>
              <a:off x="1722960" y="1958400"/>
              <a:ext cx="1899000" cy="49068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300"/>
                </a:spcBef>
                <a:buClr>
                  <a:srgbClr val="cc9900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ризна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70668"/>
            <p:cNvSpPr/>
            <p:nvPr/>
          </p:nvSpPr>
          <p:spPr>
            <a:xfrm>
              <a:off x="4255200" y="1958400"/>
              <a:ext cx="1899000" cy="49068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300"/>
                </a:spcBef>
                <a:buClr>
                  <a:srgbClr val="cc9900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Функ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70669"/>
            <p:cNvSpPr/>
            <p:nvPr/>
          </p:nvSpPr>
          <p:spPr>
            <a:xfrm>
              <a:off x="457200" y="2694600"/>
              <a:ext cx="1899000" cy="49068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300"/>
                </a:spcBef>
                <a:buClr>
                  <a:srgbClr val="cc9900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территор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70670"/>
            <p:cNvSpPr/>
            <p:nvPr/>
          </p:nvSpPr>
          <p:spPr>
            <a:xfrm>
              <a:off x="457200" y="3430800"/>
              <a:ext cx="1899000" cy="49068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300"/>
                </a:spcBef>
                <a:buClr>
                  <a:srgbClr val="cc9900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убличность вла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70672"/>
            <p:cNvSpPr/>
            <p:nvPr/>
          </p:nvSpPr>
          <p:spPr>
            <a:xfrm>
              <a:off x="2989080" y="2694600"/>
              <a:ext cx="1899000" cy="49068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300"/>
                </a:spcBef>
                <a:buClr>
                  <a:srgbClr val="cc9900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нутрен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70674"/>
            <p:cNvSpPr/>
            <p:nvPr/>
          </p:nvSpPr>
          <p:spPr>
            <a:xfrm>
              <a:off x="5521320" y="2694600"/>
              <a:ext cx="1899000" cy="49068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300"/>
                </a:spcBef>
                <a:buClr>
                  <a:srgbClr val="cc9900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неш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70676"/>
            <p:cNvSpPr/>
            <p:nvPr/>
          </p:nvSpPr>
          <p:spPr>
            <a:xfrm>
              <a:off x="459000" y="4167000"/>
              <a:ext cx="1896840" cy="49068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300"/>
                </a:spcBef>
                <a:buClr>
                  <a:srgbClr val="cc9900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уверените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70678"/>
            <p:cNvSpPr/>
            <p:nvPr/>
          </p:nvSpPr>
          <p:spPr>
            <a:xfrm>
              <a:off x="459000" y="4903560"/>
              <a:ext cx="1896840" cy="49068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ринудительный характе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300"/>
                </a:spcBef>
                <a:buClr>
                  <a:srgbClr val="cc9900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ла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70680"/>
            <p:cNvSpPr/>
            <p:nvPr/>
          </p:nvSpPr>
          <p:spPr>
            <a:xfrm>
              <a:off x="459000" y="5639760"/>
              <a:ext cx="1896840" cy="49068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сключительное прав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а взимание налог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70682"/>
            <p:cNvSpPr/>
            <p:nvPr/>
          </p:nvSpPr>
          <p:spPr>
            <a:xfrm>
              <a:off x="4255200" y="3430800"/>
              <a:ext cx="1899000" cy="49068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300"/>
                </a:spcBef>
                <a:buClr>
                  <a:srgbClr val="cc9900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олитическ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70684"/>
            <p:cNvSpPr/>
            <p:nvPr/>
          </p:nvSpPr>
          <p:spPr>
            <a:xfrm>
              <a:off x="4255200" y="4167000"/>
              <a:ext cx="1899000" cy="49068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300"/>
                </a:spcBef>
                <a:buClr>
                  <a:srgbClr val="cc9900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экономическ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70686"/>
            <p:cNvSpPr/>
            <p:nvPr/>
          </p:nvSpPr>
          <p:spPr>
            <a:xfrm>
              <a:off x="4255200" y="4903560"/>
              <a:ext cx="1899000" cy="49068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300"/>
                </a:spcBef>
                <a:buClr>
                  <a:srgbClr val="cc9900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оциальн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70688"/>
            <p:cNvSpPr/>
            <p:nvPr/>
          </p:nvSpPr>
          <p:spPr>
            <a:xfrm>
              <a:off x="6787440" y="3430800"/>
              <a:ext cx="1899000" cy="48924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Решение глобальны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робле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70690"/>
            <p:cNvSpPr/>
            <p:nvPr/>
          </p:nvSpPr>
          <p:spPr>
            <a:xfrm>
              <a:off x="6787440" y="4167000"/>
              <a:ext cx="1899000" cy="48924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Обеспечение национально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безопас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70692"/>
            <p:cNvSpPr/>
            <p:nvPr/>
          </p:nvSpPr>
          <p:spPr>
            <a:xfrm>
              <a:off x="6787440" y="4903560"/>
              <a:ext cx="1899000" cy="48924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Развитие взаимовыгодног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отрудниче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70694"/>
            <p:cNvSpPr/>
            <p:nvPr/>
          </p:nvSpPr>
          <p:spPr>
            <a:xfrm>
              <a:off x="6787440" y="5639760"/>
              <a:ext cx="1899000" cy="48924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Отстаивание государственны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интересовв междунар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отношения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70698"/>
            <p:cNvSpPr/>
            <p:nvPr/>
          </p:nvSpPr>
          <p:spPr>
            <a:xfrm>
              <a:off x="4255200" y="5639760"/>
              <a:ext cx="1899000" cy="48924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300"/>
                </a:spcBef>
                <a:buClr>
                  <a:srgbClr val="cc9900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деологическ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Приём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ПОПС</a:t>
            </a:r>
            <a:br>
              <a:rPr sz="38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(стадия «осмысление»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Приём ПОПС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(позиция, обоснование, подтверждение, следствие)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Этот приём помогает высказывать аргументированную точку зрения, как автора документа, так и самого ученика. Предлагается прочитать документ, выделить основную мысль, начиная её словами «Я считаю, что…». Далее следует обоснование: « Потому что…». Подтверждается эта мысль словами из текста: «Я могу это подтвердить…». И, делается вывод: «Следовательно…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Приём  «РАФТ» 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(стадия «осмысления»)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7944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е представляет собой сокращение: Р(оль)- А(удитория)- Ф(орма)- Т(ема). Идея состоит в том, что пишущий выбирает для себя некую роль, т.е. пишет текст не от своего лица, а от  имени исторического персонажа (король, крестьянин, революционер и т.д.). Затем выбираем, для кого будем писать, и определяем стиль создаваемого текста. Это может быть письмо, заметка в газету, жалоба чиновнику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лассу предлагается выполнить задание, написав письмо от имени участника тех событий, используя ключевые с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ряд – от имени строителя Сталинградского тракторного завода (пятилетка, стахановское движение, социалистическое соревнование, ударный труд, низкая зарпла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ряд – от имени крестьянина. (Колхоз, раскулачивание, середняк, норма хлебозаготовки, трудодн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ряд - от имени члена семьи политзаключённого (репрессии, ГУЛАГ, Беломорканал, норма выработки, бесплатная рабочая си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Приём «Плюс. Минус. Интересно» (ПМИ)</a:t>
            </a:r>
            <a:br>
              <a:rPr sz="32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(стадия «рефлексия»)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352160"/>
            <a:ext cx="822960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ма «Экономика СССР в 1953 – 1964 гг.»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7200" y="1919160"/>
          <a:ext cx="8229600" cy="4160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+» (факты носят положительный характер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-« (отрицательное значение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?» (мне это интересно)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хозы получили право вносить изменения в свои устав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едены пенсии колхозникам, пасп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росли темпы роста с/х. прод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стрые темпы развития тяжёлой  промышл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уск первого в мире  иск. Спутника Зем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кусств. материалы, тепловозы, электровозы.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еря кадров механизаторов и д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адок личного хозяйст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укурузная» эпопе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зис в освоении целинных земель – эрозия поч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овольственный кризи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риятия лёгкой пром. отстав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форма управления народным хозяйством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ческий курс Маленкова – интенсивный пу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ческий курс Хрущева – экстенсивный пу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ая политика направлена  на улучшение жизни народа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Приём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СИНКВЕЙН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03464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вание приёма происходит от французского слова «cing» – пять. Это стихотворение, состоящее из пяти строк. Используется как способ синтеза материала. Лаконичность формы развивает способность резюмировать информацию, излагать мысль в нескольких значимых словах, емких и кратких выражениях. Сиквейн может быть предложен, как индивидуальное самостоятельное задание; для работы в парах; реже как коллективное творчество.  Обычно синквейн используется на стадии рефлексии, хотя может быть дан и как нетрадиционная форма на стадии вызо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ют определённые правила написания синквейн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первая строка – тема, выраженная одним словом, обычно именем существительны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вторая строка – описание темы в двух словах, как правило, именами прилагательным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третья строка – описание действия в рамках этой темы тремя словами, обычно глаголам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четвертая строка – фраза из четырёх слов, выражающая отношение автора к данной тем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пятая строка – одно слово – синоним к первому, на эмоционально-образном или философско-обобщенном уровне повторяющее суть те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Приём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СИНКВЕЙНА</a:t>
            </a:r>
            <a:br>
              <a:rPr sz="38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(стадия «рефлексия»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«Сталин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Вожд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Властный, дальновидны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Строил, воевал, управля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 Становление тоталитарного режима в стран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. Дикта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ЭССЕ</a:t>
            </a:r>
            <a:br>
              <a:rPr sz="38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(стадия «рефлексия»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ЭССЕ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– один из приёмов, который используют в технологии развития критического мышления. Целесообразно использовать как небольшое письменное задание, обычно, на стадии рефлексии. Суть этого метода не только в том, чтобы выразить свои мысли в письменной форме, но и поделиться своим мнением с другими, выслушать чужую точку зрения. Детям (да и не только им) не всегда легко выразить свое мнение в развернутом, логичном виде сразу, – читая свои записи это сделать проще. Ни в коем случае нельзя оценивать эти эссе с точки зрения грамотности. Их нужно воспринимать как способ развития мышления и формирование культуры чтения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Различают 5-минутное эссе, 10-минутное эссе, а также более продолжительные и трудоемкие сочинени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ПЕРЕПУТАННЫЕ ЛОГИЧЕСКИЕ ЦЕПОЧКИ</a:t>
            </a: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(стадии «вызов», «рефлексия»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ПЕРЕПУТАННЫЕ ЛОГИЧЕСКИЕ ЦЕПОЧКИ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На отдельные листы или на доску выписываются 5-6 событий из текста (как правило, историко-хронологического). Демонстрируются перед классом в заведомо нарушенной последовательности. Учащимся предлагается восстановить правильный порядок хронологической или причинно-следственной цепи. После заслушивания различных мнений и придя к более или менее единому решению, учитель предлагает ученикам познакомиться с исходным текстом и определить: верны ли были их предположения. В таком виде это задание используется на стадии вызова. На стадии рефлексии, учащимся предлагается расставить события в правильной последовательности после прочтения текста или лекции учителя. Аналогичные формы заданий встречаются в тестах ЕГЭ, поэтому такие формы работы на уроке помогают учащимся подготовиться к предстоящим экзамена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Технология развития критического мышления через чтение и письмо (РКМЧП)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развития критического мышления через чтение и письмо разработана в конце XX века в США (Ч. Темпл, Д. Стил, К. Мередит). В ней синтезированы идеи и методы отечественных технологий, коллективных и групповых способов обучения, а также сотрудничества, развивающего обучения; она является общепедагогической, надпредмет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Вывод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Использование технологии развития критического мышления на уроках позволяет сформировать  умения и навыки работы с информацией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находить, осмысливать, использовать нужную информацию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анализировать, систематизировать, представлять информацию в виде схем, таблиц, график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равнивать исторические явления и объекты, при этом самостоятельно выявлять признаки или линии сравнения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ыявлять проблемы, содержащиеся в тексте, определять возможные пути решения, вести поиск  необходимых сведений, используя  различные источники информаци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-1611720" y="3129120"/>
            <a:ext cx="94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Цель технологии развития критического мышления через чтение и письмо (РКМЧП)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ель данной образовательной технологии -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развитие мыслительных навыков учащихся, необходимых не только в учебе, но и обычной жизни (умение принимать взвешенные решения, работать с информацией, анализировать различные стороны явлений и др., т.е. коммуникативные и рефлексивные умения и действия учащихся). Применение технологии критического мышления на уроках истории и обществознания позволяет создать максимально благоприятные условия для активизации и развития мыслительных способностей школьников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Этапы технологии 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РКМЧП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вый этап работы называется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тадия вызов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буждение имеющихся знаний, интереса к полученной информации, актуализация жизненного опыта. Другими словами «создание мотива к обучению». На этой стадии у ребёнка возникают собственные цели и мотивы для изучения нов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торая стадия -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осмысл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одержания (получение новой информации). Учитель может предложить кроме текста учебника альтернативные источники информации. А школьники со временем начинают более вдумчиво читать, слушать, задавать разнообразные вопро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етья стадия -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тадия рефлекс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еобходима не только для того, чтобы учитель проверил память своих учеников, но и для того, чтобы они сами смогли проанализировать, удалось ли им достичь поставленных целей и решить возникшие вопрос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Приёмы и методы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технологии </a:t>
            </a: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РКМЧП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сер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ктивное чтение с маркировкой)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Кластер (гроздь)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олагает выделение смысловых единиц текста и его графическое оформление в виде грозд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Синквейн (пятистишие)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нерифмованное стихотворение, состоящее из пяти строк, используется как дидактический прием на этапе рефлексии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Фишбоун (рыбный скелет)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лова – вопрос темы, верхние косточки – основные понятия темы, нижние косточки – суть понятий, хвост – ответ на вопрос. Записи должны быть краткими, представлять собой ключевые слова или фразы, отражающие су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Сводная таблица: «Плюс. Минус. Интересно» (ПМИ)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ональная оценка интересующих ученика фактов и мыслей: «Что хорошего?», «Что плохого?», «Что в этом интересного?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рием «РАФТ»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вание представляет собой сокращение: Р(оль)- А(удитория)- Ф(орма)- Т(ема). Идея состоит в том, что пишущий выбирает для себя некую роль, т.е. пишет текст не от своего лица, а от  имени исторического персонажа (король, крестьянин, революционер и т.д.). Затем выбираем, для кого будем писать, и определяем стиль создаваемого текста. Это может быть письмо, заметка в газету, жалоба чиновнику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Приём  ИНСЕРТ </a:t>
            </a:r>
            <a:br>
              <a:rPr sz="32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(стадии «вызов», «осмысление», «рефлексия»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ругим приемом, используемым для систематизации материала, является </a:t>
            </a:r>
            <a:r>
              <a:rPr b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прием ИНСЕРТ 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 - маркировка текста значками по мере его чтения.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звание приёма складывается из первых букв его назначения: interactive (интерактивная) noting (размечающая) system (система) effective (для эффективного) reading and (чтения и) thinking (размышления). В процессе чтения текста ученик карандашом или маркером делает пометки на полях: "V” - уже знал, «+»- новое, «-» - думал иначе, «?»- не понял, есть вопросы. Этот приём можно использовать при работе с текстом исторического источника. Приём ИНСЕРТ помогает ученикам читать текст источника более внимательно, способствует лучшему запоминанию материала.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Этапы приёма  ИНСЕРТ</a:t>
            </a:r>
            <a:br>
              <a:rPr sz="3600"/>
            </a:b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(стадии «вызов», «осмысление», «рефлексия»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э т а п: Предлагается система маркировки текста, чтобы подразделить заключенную в ней информацию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э т а п: Читая текст, учащиеся помечают соответствующим значком на полях отдельные абзацы и предложе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э т а п: Учащимся предлагается систематизировать информацию, расположив ее в соответствии со своими пометками в таблиц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э т а п: Последовательное обсуждение каждой графы таблиц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Приём  «ФИШБОУН»</a:t>
            </a:r>
            <a:br>
              <a:rPr sz="4000"/>
            </a:b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(стадии «вызов», «осмысление», «рефлексия»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4440" y="1164960"/>
            <a:ext cx="8229600" cy="49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Фишбоун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рыбный скелет): голова – вопрос темы, верхние косточки – основные понятия темы, нижние косточки – суть понятий, хвост – ответ на вопрос. Записи должны быть краткими, представлять собой ключевые слова или фразы, отражающие суть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итель рисует на доске «фишбоун» - скелет рыбы, и объясняет правила заполнения этого скелета «мясом» - причинами, фактами и событиями. Дети самостоятельно или с помощью учителя отвечают на вопрос и делают выво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Приём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  «ФИШБОУН»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(стадии «вызов», «осмысление», «рефлексия»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45360" cy="453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ичин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фак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9280" y="2903400"/>
            <a:ext cx="207468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4200" y="3483000"/>
            <a:ext cx="158256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4520" y="2832120"/>
            <a:ext cx="2047680" cy="1009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40160" y="3643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25760" y="3121200"/>
            <a:ext cx="39463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98920" y="3121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55720" y="3309840"/>
            <a:ext cx="41371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78000" y="33670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45320" y="4933800"/>
            <a:ext cx="183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8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11360" y="3135240"/>
            <a:ext cx="4208400" cy="5079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23160" y="3338640"/>
            <a:ext cx="914400" cy="91440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15920" y="3265560"/>
            <a:ext cx="1755720" cy="928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68600" y="3846600"/>
            <a:ext cx="1930320" cy="1276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2470800">
            <a:off x="7105320" y="2382840"/>
            <a:ext cx="1612800" cy="1789200"/>
          </a:xfrm>
          <a:prstGeom prst="rtTriangl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4200" y="2905200"/>
            <a:ext cx="2022480" cy="914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57680" y="365112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94240" y="262908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740400">
            <a:off x="2841120" y="2214360"/>
            <a:ext cx="511200" cy="868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740400">
            <a:off x="3722400" y="2231640"/>
            <a:ext cx="511200" cy="868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740400">
            <a:off x="4660560" y="2217240"/>
            <a:ext cx="511200" cy="868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21416400">
            <a:off x="2732040" y="3654360"/>
            <a:ext cx="511200" cy="868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1285600">
            <a:off x="3613320" y="3665520"/>
            <a:ext cx="510840" cy="868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21154800">
            <a:off x="4633560" y="3683160"/>
            <a:ext cx="511200" cy="868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08:33:08Z</dcterms:created>
  <dc:creator>Админ</dc:creator>
  <dc:description/>
  <dc:language>en-US</dc:language>
  <cp:lastModifiedBy>Loner-XP</cp:lastModifiedBy>
  <dcterms:modified xsi:type="dcterms:W3CDTF">2013-08-26T17:50:23Z</dcterms:modified>
  <cp:revision>21</cp:revision>
  <dc:subject/>
  <dc:title>«Формирование патриотического сознания через проектную деятельность» </dc:title>
</cp:coreProperties>
</file>